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lick to move the slide</a:t>
            </a:r>
            <a:endParaRPr b="0" lang="en-US" sz="4800" spc="-1" strike="noStrike">
              <a:solidFill>
                <a:srgbClr val="ccec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D09C-86D3-4E3D-912C-BC719347C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ngered Species act recognizes artificial propagation as one conservation measure that may be utilized to aid recovery of list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e propagation has been used for a number of avian and mammalian species such as California condors, peregrine falcons and blackfooted ferrets with variable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e propagation for recovery of anadromous salmonids that are listed under the ESA is a fairly new development.  Several captive rearing projects were started in the Pacific northwest in the mid-1990s as emergency rescue measures for salmon populations that had declined to critica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ll of us biological types knew exactly what we were doing and where our priorities lay, it was not clear to the policy and funding level decision-makers that there was a logical decision process or scientific basis for the new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standards to judge captive propagation projects and set funding priorities led the Hatcheries and inland fisheries Branch(who are engaged in ESA permits for these activities) and the NW Fisheries Science Center (who are engaged in developing and implementing projects) to develop these standard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fter reviewing the decision standards outlined above, the managers conclude that captive propagation is the appropriate strategy for recovery, we apply operational standards to shape the design of projec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odstock selection and Spawning protocols should generally be designed to operate the captive population as an “ideal” population including:  balanced sex ratios, equal opportunity for every fish to contribute, equal family size, enough individuals to represent the full spectrum of genetic material, and random mating,  (Kapuscinski and Jacobson 198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 fish health and fish culture guidelines such as the AFS or IHOT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fish to match wild fish in behavior and survival characteristics natural rearing systems are adv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ish to be reared long-term in captivity, facilities and protocols need to provide safety and avoid catastrophic loss in the culture facilities as well as fish health and consideration of the goals for these fis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strategy is a pivotal element in a recovery attempt based on captive rearing.  Release timing should be based on the behavior of any remaining natural fish or on knowledge of the life history characteristics of the stock when it was in the w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ring and release protocols should be designed with the goal of returning a successful fish to the natural ecosyste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rogram is successful in returning adults to spawn naturally a plan to reduce hatchery intervention should be in place.  Marking program fish to assist in evaluation is also important for eliminating outside influenc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program may produce more gametes or fish than are necessary at some stage. The fish and gametes will be listed, probably endangered, and there may be legal and social reasons not to lethally dispose of excess.  In developing plans and permits, off-ramps for contingecies like excess eggs or fry or higher-than predicted adult returns should be in plac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inimums . . .  M&amp;E is essential to guide decisions about the project and also to answer the uncertainties in the benefit;risk analys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Fisheries has developed and promoted the use of HGMPs to clearly describe artificial propagation programs.  Applied to Captive propagation projects, the HGMP displays how the decision standards and operating guidelines are employ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flash-back to one of the first slides, the benefit:risk analysis is used to display that the benefits of intervention are greater than the risks of either intervening or not inter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risk of doing something greater than the risk of doing noth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d two purposes in mind as we developed thes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o display the decision process that would lead to proposing a captive propagation project and establish scientific standards, to help with prioritizing and funding decisions and to help project proponents understand the basis on which their projects might be judged,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to provide a framework for the systematic development and evaluation of captive propagation measures to deal with the uncertainties and risks that are inherent in artificial interven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eneralities can be applied early in the captive propagation decision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ll alternatives should be considered before selecting captive propagation, and proponents of captive projects should understand that it is an emergency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ptive propagation can help increase the number of a listed species, but cannot alone lead to re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use of any artificial propagation program has uncertainties as far as establishing long-term, self-sustaining natural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ptive propagation may be a temporary fix to the short term issue of preventing extinction, but the other factors that initially led to the decline of the population must also be addressed for recovery to occu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evel of screening criteria are related to defining the status and importance of the population, the scale and duration of the project, and performance standards to measure the success or failure of the project in meeting clearly established goa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population has been identified and described and meets the standard definition of “ a group of fish that is substantially reproductively separated other fish of the same species that spawn at some other site or the same site at some other ti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biological uniqueness is the most important criteria for valuing a population, but some program sponsors may also be seeking recovery for high or unique economic, social or cultural valu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ze and duration of proposed interventions is consider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and establishing performance indicators to determine how successful the program i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proponents should establish the trigger points for terminating or changing the captive propagation program before it is actually placed in oper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1C514-8DF8-48C0-94D8-E4FD048B9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84FF9-286C-440B-B6E4-E68E0D28B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3E8F4-162C-4D90-84FD-A53F13851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B330B-3A10-4827-8932-449F4F9C1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9B2CC-3944-42E7-973A-0E25CE1B1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25FAA-4B69-45C8-888D-CFD33E62F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FF6AE-AFD0-414E-94D2-30EC8B5A3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78A86-FA88-4F6F-8258-2649916F3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08464-FB8C-414B-B16C-2F4127CE9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A9C66-26DD-4515-95C4-F84D00514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80FA1-2CC5-4201-90F4-A77C14D68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25275-DABD-4265-889C-18168127D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96826-2A1E-4A5B-8333-08CE9DAA1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9D03D-FB13-446B-B3F9-60E227978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74DCC-9C0A-4914-AE79-6AF62AE97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D817DA-B7CB-4054-9A4C-EA5D9C43FC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6F14AF-713D-42C2-8A0B-8B2F735C4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92F2B-1295-4E85-9A28-2406C5ABE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69D0C-46BE-4BC0-90A5-1CC16A353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ABD37-9F32-4FC6-9F42-C5DF89A02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293E1-6E91-4285-9455-6FB4ED57C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460A8-41F7-4812-85EB-55E056983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5923C-30AF-4D1B-B5B9-D7FFA6DC6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B9C81-F750-48F5-94F1-371FA7DF3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E335-B5A8-424C-AE99-9E2639BB626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lick to edit the title text format</a:t>
            </a:r>
            <a:endParaRPr b="0" lang="en-US" sz="4800" spc="-1" strike="noStrike">
              <a:solidFill>
                <a:srgbClr val="ccec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814D-9E53-46EA-B2BA-ADCFFE80D51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4c847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6a4c8"/>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52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Guidelines for Use of Captive Broodstocks in Recovery Efforts for Pacific Salmon</a:t>
            </a:r>
            <a:endParaRPr b="0" lang="en-US" sz="4800" spc="-1" strike="noStrike">
              <a:solidFill>
                <a:srgbClr val="ccecff"/>
              </a:solidFill>
              <a:latin typeface="Arial"/>
            </a:endParaRPr>
          </a:p>
        </p:txBody>
      </p:sp>
      <p:sp>
        <p:nvSpPr>
          <p:cNvPr id="170" name="PlaceHolder 2"/>
          <p:cNvSpPr>
            <a:spLocks noGrp="1"/>
          </p:cNvSpPr>
          <p:nvPr>
            <p:ph type="subTitle"/>
          </p:nvPr>
        </p:nvSpPr>
        <p:spPr>
          <a:xfrm>
            <a:off x="456840" y="3657600"/>
            <a:ext cx="80010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b Pollard, NOAA fisheries NW Region, Hatcheries and Inland Fisheries Branch</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as Flagg, NW Fisheries Science Center Manchester Marine Laboratory</a:t>
            </a:r>
            <a:endParaRPr b="0" lang="en-US" sz="2800" spc="-1" strike="noStrike">
              <a:solidFill>
                <a:srgbClr val="ffffff"/>
              </a:solidFill>
              <a:latin typeface="Arial"/>
            </a:endParaRPr>
          </a:p>
        </p:txBody>
      </p:sp>
      <p:sp>
        <p:nvSpPr>
          <p:cNvPr id="171" name=""/>
          <p:cNvSpPr/>
          <p:nvPr/>
        </p:nvSpPr>
        <p:spPr>
          <a:xfrm>
            <a:off x="533520" y="6019920"/>
            <a:ext cx="8610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 descr=""/>
          <p:cNvPicPr/>
          <p:nvPr/>
        </p:nvPicPr>
        <p:blipFill>
          <a:blip r:embed="rId1"/>
          <a:stretch/>
        </p:blipFill>
        <p:spPr>
          <a:xfrm>
            <a:off x="0" y="5384880"/>
            <a:ext cx="8877240" cy="147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 for Captive Propagation Projects</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od stock collec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wning protoco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ring protocol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ease of juvenil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ment of returning adult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disposition of fish</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ing and Evalu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Brood Stock Collection</a:t>
            </a:r>
            <a:endParaRPr b="0" lang="en-US" sz="40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ll remaining individuals of wild population into brood stock, o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broodstock selection protocol to ensure that all life history and genetic variability is represente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al infusion of wild fish into successive year classes to avoid domestication and artificial sele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 </a:t>
            </a:r>
            <a:br>
              <a:rPr sz="4000"/>
            </a:br>
            <a:r>
              <a:rPr b="0" lang="en-US" sz="4000" spc="-1" strike="noStrike">
                <a:solidFill>
                  <a:srgbClr val="ccecff"/>
                </a:solidFill>
                <a:latin typeface="Arial"/>
              </a:rPr>
              <a:t>Spawning Protocols</a:t>
            </a:r>
            <a:endParaRPr b="0" lang="en-US" sz="40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wn all available adult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rieve all possible eggs from mature fema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spawning protocols to maximize effective population siz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ial or single pair mating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opreserved sper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ed spaw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Rearing Protocols</a:t>
            </a:r>
            <a:endParaRPr b="0" lang="en-US" sz="40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rudent fish culture practices</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mic wild rearing conditions for fish to be released into the wild</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ish to be reared to maturity in captivity</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 fish among two or more faciliti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hogen and predator-free water suppli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r smolts to be adaptable for seawater rearing</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seawater facilities from catastrophic los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lize contribution of all parents to the next genera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Release Protocol</a:t>
            </a:r>
            <a:endParaRPr b="0" lang="en-US" sz="40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ase fish at a life stage where probability of survival is greates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limate fish to locations where they are intended to return</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releases with wild fish at same life stage or maturity</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erse releases</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stress caused by handling</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negative interactions with other spec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Management of Returning Adults</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rogram meets all other criteria, there would be no general restriction on the proportion of hatchery-origin fish on the spawning grounds for the first three genera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ESU hatchery fish should not exceed natural straying levels or 1% if natural straying levels are unknow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Other Disposition of Fish</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captive propagation programs produce more fish than are needed for future broodstock or release, the extra fish will be disposed of in a manner that is agreeable to co-managers and consistent with permit restric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biologically sound and socially acceptable off ramps in adv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Monitoring and Evaluation</a:t>
            </a:r>
            <a:endParaRPr b="0" lang="en-US" sz="40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mp;E for fish in captive propagation will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ival at life history stages to adulthoo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ability of gametes produced in captiv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havior, morphology and reproductive success</a:t>
            </a:r>
            <a:endParaRPr b="0" lang="en-US" sz="24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mp;E for fish released to the wild will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ival and migration suc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return to natal are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successfully reprodu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velopment of an Operating Plan</a:t>
            </a:r>
            <a:endParaRPr b="0" lang="en-US" sz="40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Hatchery and Genetic Management Plan” (HGMP) template from NMFS-NWR web site to clearly defin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scope and goal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stocks and watershed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standards and indicators for risks and benefit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s on listed species and other management objective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ies and operating standar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nefit : Risk Analysis</a:t>
            </a: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abundance of target popul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 genetic heritage, avoid extinc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ore listed population to native habitat</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tic effects including inbreeding, loss of variability, accumulation of mutat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ltural risks including domestication and catastrophic loss in hatcher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logical risks including predation, competition, diseas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Purpose</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play the decision process and scientific standard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 framework for systematic development and evaluation of effective captive propagation mea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761760"/>
            <a:ext cx="83059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ecff"/>
                </a:solidFill>
                <a:latin typeface="Arial"/>
              </a:rPr>
              <a:t>Thank you…</a:t>
            </a:r>
            <a:br>
              <a:rPr sz="7200"/>
            </a:br>
            <a:endParaRPr b="0" lang="en-US" sz="7200" spc="-1" strike="noStrike">
              <a:solidFill>
                <a:srgbClr val="ccecff"/>
              </a:solidFill>
              <a:latin typeface="Arial"/>
            </a:endParaRPr>
          </a:p>
        </p:txBody>
      </p:sp>
      <p:sp>
        <p:nvSpPr>
          <p:cNvPr id="210" name="PlaceHolder 2"/>
          <p:cNvSpPr>
            <a:spLocks noGrp="1"/>
          </p:cNvSpPr>
          <p:nvPr>
            <p:ph/>
          </p:nvPr>
        </p:nvSpPr>
        <p:spPr>
          <a:xfrm>
            <a:off x="533160" y="2362320"/>
            <a:ext cx="8001000" cy="838080"/>
          </a:xfrm>
          <a:prstGeom prst="rect">
            <a:avLst/>
          </a:prstGeom>
          <a:noFill/>
          <a:ln w="0">
            <a:noFill/>
          </a:ln>
        </p:spPr>
        <p:txBody>
          <a:bodyPr lIns="90000" rIns="90000" tIns="46800" bIns="46800" anchor="t">
            <a:normAutofit/>
          </a:bodyPr>
          <a:p>
            <a:pPr lvl="4" marL="2057400" indent="-228600">
              <a:spcBef>
                <a:spcPts val="1001"/>
              </a:spcBef>
              <a:buSzPct val="100000"/>
              <a:buBlip>
                <a:blip r:embed="rId1"/>
              </a:buBlip>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y Questions?</a:t>
            </a:r>
            <a:endParaRPr b="0" lang="en-US" sz="4000" spc="-1" strike="noStrike">
              <a:solidFill>
                <a:srgbClr val="ffffff"/>
              </a:solidFill>
              <a:latin typeface="Arial"/>
            </a:endParaRPr>
          </a:p>
        </p:txBody>
      </p:sp>
      <p:sp>
        <p:nvSpPr>
          <p:cNvPr id="211" name=""/>
          <p:cNvSpPr/>
          <p:nvPr/>
        </p:nvSpPr>
        <p:spPr>
          <a:xfrm>
            <a:off x="1219320" y="3809880"/>
            <a:ext cx="685800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b Pollard, NOAA fisheries NW Region, Hatcheries and Inland Fisheries Branc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mas Flagg, NW Fisheries Science Center Manchester Marine Laborator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1219320" y="52578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3" name="" descr=""/>
          <p:cNvPicPr/>
          <p:nvPr/>
        </p:nvPicPr>
        <p:blipFill>
          <a:blip r:embed="rId2"/>
          <a:stretch/>
        </p:blipFill>
        <p:spPr>
          <a:xfrm>
            <a:off x="2514600" y="5486400"/>
            <a:ext cx="4038480" cy="67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ptive propagation is:</a:t>
            </a:r>
            <a:endParaRPr b="0" lang="en-US" sz="4400" spc="-1" strike="noStrike">
              <a:solidFill>
                <a:srgbClr val="ccecff"/>
              </a:solidFill>
              <a:latin typeface="Arial"/>
            </a:endParaRPr>
          </a:p>
        </p:txBody>
      </p:sp>
      <p:sp>
        <p:nvSpPr>
          <p:cNvPr id="17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appropriate if the risk of extinction is greater than the risks of interven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rely, if ever, a complete recovery program;</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proven for long-term rebuilding of naturally spawning populati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erimental and temporary conservation measure in the context of an overall recovery strateg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Standards</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statu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ce of populat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le of Projec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 and Performance standard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du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Population Status</a:t>
            </a:r>
            <a:endParaRPr b="0" lang="en-US" sz="4000" spc="-1" strike="noStrike">
              <a:solidFill>
                <a:srgbClr val="ccecff"/>
              </a:solidFill>
              <a:latin typeface="Arial"/>
            </a:endParaRPr>
          </a:p>
        </p:txBody>
      </p:sp>
      <p:sp>
        <p:nvSpPr>
          <p:cNvPr id="180" name="PlaceHolder 2"/>
          <p:cNvSpPr>
            <a:spLocks noGrp="1"/>
          </p:cNvSpPr>
          <p:nvPr>
            <p:ph/>
          </p:nvPr>
        </p:nvSpPr>
        <p:spPr>
          <a:xfrm>
            <a:off x="533520" y="1599840"/>
            <a:ext cx="815328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is at a high risk of extinction:</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low abundance (&lt; 50 fish per year)o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abundance and declining, o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or no natural production predicted for at least one generation.</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is of very low abundance relative to available habitat and short term supplementation is deemed appropri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Importance of Population</a:t>
            </a:r>
            <a:endParaRPr b="0" lang="en-US" sz="40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que genetic qualiti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que adaptations to specific habitat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likelihood of successful natural recolonization in the event of extinc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potential productivity, or unique social, economic or cultural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Scale of Project</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ion based on number of fish needed t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 extinction of target popu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 genetic and life history vari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genetic change in captiv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establish fish in the wild</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ation should be short (one to three gen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Measures of Success</a:t>
            </a:r>
            <a:endParaRPr b="0" lang="en-US" sz="40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ful programs wil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ly reduce risk of extin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minimal genetic change from target popu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ntroduce fish that are phenotypically similar to wild fis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the number of fish reproducing successfully in the wi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Changing or Terminating the Program</a:t>
            </a:r>
            <a:endParaRPr b="0" lang="en-US" sz="40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of immediate extinction lesse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se into reliance on natural spawn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uccess toward recovery in three generati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rogress on correcting factors for decline</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genetic or phenotypic effects of captive propag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9T16:39:52Z</dcterms:created>
  <dc:creator>pollardh</dc:creator>
  <dc:description/>
  <dc:language>en-US</dc:language>
  <cp:lastModifiedBy>pollardh</cp:lastModifiedBy>
  <dcterms:modified xsi:type="dcterms:W3CDTF">2003-04-11T16:26:33Z</dcterms:modified>
  <cp:revision>7</cp:revision>
  <dc:subject/>
  <dc:title>Guidelines for Use of Captive Broodstocks in Recovery Efforts for Pacific Salmon</dc:title>
</cp:coreProperties>
</file>